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52936"/>
        <c:axId val="83292661"/>
      </c:barChart>
      <c:catAx>
        <c:axId val="25652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92661"/>
        <c:crosses val="autoZero"/>
        <c:auto val="1"/>
        <c:lblAlgn val="ctr"/>
        <c:lblOffset val="100"/>
        <c:noMultiLvlLbl val="0"/>
      </c:catAx>
      <c:valAx>
        <c:axId val="83292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52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7F0-CB10-455A-930B-518E1359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A64-2BFC-4C68-B705-D6731BB0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5DB-4E16-45FA-872D-4F8CD91E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3E2-41A0-44B5-9162-81E9CC9E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A3C-752D-4A64-80AA-15C06261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4DC-6677-4CC0-85EC-6BD9E5B9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FF1-F107-4DD0-B9C1-221CF88C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25F-824B-4CF3-8636-4C61C484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085-437E-4C91-A005-F9A0ACFE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C0B-713D-4ABE-B073-F6E003D3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8A7-D937-414B-A0E2-C7028727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092-737D-466C-9DBE-6BB5748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8B2EA-2EF1-45AE-9AC7-B089D4118F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