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43632"/>
        <c:axId val="29260235"/>
      </c:barChart>
      <c:catAx>
        <c:axId val="26243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60235"/>
        <c:crosses val="autoZero"/>
        <c:auto val="1"/>
        <c:lblAlgn val="ctr"/>
        <c:lblOffset val="100"/>
        <c:noMultiLvlLbl val="0"/>
      </c:catAx>
      <c:valAx>
        <c:axId val="29260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3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7BC-C9D5-4B02-8A8A-57F9DAE2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429-46B4-4E45-A159-E0A536C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93C-FE05-48FB-BA0A-66648B00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984-E70E-4B76-863C-4CD6C235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EB-7774-401B-88AF-FC5ECFF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602-7FCB-4DEB-8B1B-5A81B88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F94-4CE8-47D7-9597-A5913D3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332-668B-4BFD-B520-226E36EB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979-AD64-4730-A7C8-A16AAA09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83E-B298-400E-A7C2-42C2E1D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CE9-5097-4999-9A8A-2619CF5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8F7-51A3-45CA-8AC0-3D7C2D1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57DF-D721-4E7B-A2D7-848E7B07B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