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259615"/>
        <c:axId val="88709612"/>
      </c:barChart>
      <c:catAx>
        <c:axId val="362596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09612"/>
        <c:crosses val="autoZero"/>
        <c:auto val="1"/>
        <c:lblAlgn val="ctr"/>
        <c:lblOffset val="100"/>
        <c:noMultiLvlLbl val="0"/>
      </c:catAx>
      <c:valAx>
        <c:axId val="887096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596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8B49-D867-42F4-AB59-D27A8899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36A-8D4B-45EF-B8F2-5430CC2C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749-4523-4355-A381-8243E755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1F0F-871F-4DE5-A759-2F34793D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0047-A7AB-4D12-8709-8A526578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BDD-CD0A-4E7E-B1F0-2D06AD57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E9E2-EED0-4A1E-97D7-39155168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3564-5834-4BA3-9BE8-4E575CCE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3E58-AC0A-443D-9BE3-1BE07012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DD57-ADCF-48F1-828D-1E946364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4319-A900-40C8-9916-EE96F7C8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FDF-83D7-4D15-83B3-5272422F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04EE3-D315-47AB-AE52-FFF668FBFA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