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306139"/>
        <c:axId val="28103284"/>
      </c:barChart>
      <c:catAx>
        <c:axId val="993061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03284"/>
        <c:crosses val="autoZero"/>
        <c:auto val="1"/>
        <c:lblAlgn val="ctr"/>
        <c:lblOffset val="100"/>
        <c:noMultiLvlLbl val="0"/>
      </c:catAx>
      <c:valAx>
        <c:axId val="281032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061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7641-4582-4B25-872A-22D99F0F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DD84-124D-441B-841E-8345EEFB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C476-B07F-47CC-9719-EACD2D483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EFD5-43D4-4E77-B5BB-1A2B4E53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7BE7-8D08-48B8-9BFE-1A9E95D3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906D-E610-485A-8F28-9EDFDD73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DD87-5C23-4DF5-AEA3-BEF9A449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EDAC-D807-4CF8-B10A-10FE4DDF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4E0F-4C7F-4964-A27C-25836DB2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D19D-C60A-4F10-9A92-B1BB8CCD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58A8-EE3B-467B-8F9B-E4FC5A8F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0183-59CC-4095-897D-A2F405A6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C9E21-5869-4712-9F20-92A76BABF9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