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4632"/>
        <c:axId val="63077622"/>
      </c:barChart>
      <c:catAx>
        <c:axId val="8734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77622"/>
        <c:crosses val="autoZero"/>
        <c:auto val="1"/>
        <c:lblAlgn val="ctr"/>
        <c:lblOffset val="100"/>
        <c:noMultiLvlLbl val="0"/>
      </c:catAx>
      <c:valAx>
        <c:axId val="63077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4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A865-1228-4FC6-9F9F-3D5F193C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33A-22B0-473A-B530-C8062A9A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12E-59AF-45C4-8DD6-0DA93946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2FA-AAE0-42E4-B40F-426A483A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5D6B-FD64-4D73-A0E6-E391BBFC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3F7-C272-46A5-9406-A5C6DADA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552-7A92-4107-8C77-BD80433E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26F-08B3-43A7-972E-428D004C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883-2715-4426-A85D-D474A7FB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135-103A-4999-A0D8-CE503AAC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79C-1F61-499A-930D-FA9A909C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B15F-C89A-4315-A08C-72B8A366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51EDE-8CF3-4DCA-A40D-8181ED973A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