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000337"/>
        <c:axId val="4599708"/>
      </c:barChart>
      <c:catAx>
        <c:axId val="990003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9708"/>
        <c:crosses val="autoZero"/>
        <c:auto val="1"/>
        <c:lblAlgn val="ctr"/>
        <c:lblOffset val="100"/>
        <c:noMultiLvlLbl val="0"/>
      </c:catAx>
      <c:valAx>
        <c:axId val="45997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003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AB74-ABDB-441B-8CFA-83E4955F3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3999-B6AA-4A7D-9D34-A1E596C2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9B48-55E1-40E6-882D-922AAD5B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D2E8-D640-4318-B546-728941C8C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B91E-FC6D-42EC-8FFE-5BA02FA7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6250-08CF-4CA3-8AAE-A3B2729A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2090-CE2A-4C70-BFF5-6117560A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143D-2EE0-428E-94FF-C9A3B8DF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6649-52AD-430E-B46D-9A422689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69A3-BACC-413C-A10C-8628E070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7EDF-D9A9-43DB-AF5E-A426E2A4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457C-C472-4241-970C-7C2A0519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3F9C17-DBF4-49B7-9D45-45B9CCF3AD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