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27680"/>
        <c:axId val="11533045"/>
      </c:barChart>
      <c:catAx>
        <c:axId val="96727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33045"/>
        <c:crosses val="autoZero"/>
        <c:auto val="1"/>
        <c:lblAlgn val="ctr"/>
        <c:lblOffset val="100"/>
        <c:noMultiLvlLbl val="0"/>
      </c:catAx>
      <c:valAx>
        <c:axId val="11533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27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442-DE59-4E00-AC7C-1C86A4C5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2FB-20A2-483B-853B-DE1EF9F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593-6467-4514-9697-8181AB26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7E5-8767-4EE5-9F8A-737D3587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EDD-E256-42D3-9868-0A54ACAD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D60-C531-4890-8651-C0C34E29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1CC-53D1-4E3C-B5CC-6C43C16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1F9-3696-4706-A081-77D72170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EE6-69F3-4625-BA5A-0C541BB9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926-1B6F-4C12-BE7B-EF553ED7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D83-3A5B-4066-A09E-D8FCC6E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796-5F2E-4F3E-BDFF-EF4916A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B8C45-B0B3-4CA2-A25C-623017E28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