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51375"/>
        <c:axId val="34543074"/>
      </c:barChart>
      <c:catAx>
        <c:axId val="39751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3074"/>
        <c:crosses val="autoZero"/>
        <c:auto val="1"/>
        <c:lblAlgn val="ctr"/>
        <c:lblOffset val="100"/>
        <c:noMultiLvlLbl val="0"/>
      </c:catAx>
      <c:valAx>
        <c:axId val="34543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51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811-D211-4904-A097-46AB0B98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5C5-7FF5-4081-AAAC-F5C348E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CF3-6119-4745-A1F6-07A818A8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1B8-B16E-48E9-9087-B8A2EED7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2B6-7043-4B05-8182-DC264EA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8CB-A114-4F65-A8B5-5D96E45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158-22C6-4484-8472-08B9F783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2F7-D403-4446-BD36-9E3D8D6A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160-454D-4BD5-B1D7-070B59A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126-2420-4DD5-B408-E45A6A73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519-0869-4C4D-94B2-F547B46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49A-09F2-497A-A230-B858659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169DC-88C4-4D76-8859-F1A1B4D2C1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