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DB2CB33-9AB5-46A5-BC97-AA9099E1617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EB10005-0B18-4015-B785-5F0DCF2CD05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92CDF3B-44B0-4AB9-B0C6-0E8B11DA54B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391C298E-BBCC-40D6-AF1A-7E75F863557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8124B7C-3A95-48F2-91F2-2C93230C71B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AB0BA54C-A617-437E-9D93-F260AB07C3A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701FC7E-E80A-4855-A82A-436C7B89E131}"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6CE58D-547C-4CD6-83CA-896E18373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64FDA0-183D-420B-97A0-5ADE312921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EC94CF-6FB8-4AE9-9CEA-AC607B130D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FBDC2A-50C6-425C-A880-C8776ADE7E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CA9E8F-C5A5-4C2A-8C51-F809E7CE2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D18C0B-B430-429A-B611-CA41216F7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4663F4-84E3-4E77-A64B-BDB26A8E1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6E3CC6-D9A2-4F7B-84C9-6DE8AA8ED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DF2715-56A1-4032-B4EB-705D38C2DD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29FD6E-6D91-471F-BB14-D4C06F4B3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96C69-8583-4E49-9EBC-344C292C79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D80F09-6318-4E5A-AD3F-2E9EED9BFF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10B13-B80A-491D-9FF3-E7AEA7FC3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23BE2-4D54-44F0-B5A4-B3E3CB2EB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26C773-E415-408A-B755-3914A8CC4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CA9B78-5DBB-4664-A02A-9D1E39A883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F34446-14DA-409E-8FA5-080A9D65B5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7853DD-CE2A-4DFA-8DDD-B34E50A0F4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2C4DE0-D7DB-486C-8A3D-9ED20461C0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46F189-C2AE-4B7F-89CF-CEA0587F20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CF0856-C16C-4055-8A5D-31BAC88D0B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71504E-55F7-4D2D-9B51-78AC72D833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FCB5B4-855E-4D8B-ABCA-1BE9DF5074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81558D-0F4C-4F80-A50B-0AC4950EED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637D-3F70-4101-8831-CD98E88F3DC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BEC5-0491-4D36-8F96-8FAFBB8D908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DE1C47C7-8FC9-4FA9-AE70-56AB40E79CEA}" type="datetime3">
              <a:rPr b="0" lang="en-US" sz="2000" spc="-1" strike="noStrike">
                <a:solidFill>
                  <a:srgbClr val="ffffcc"/>
                </a:solidFill>
                <a:latin typeface="Tahoma"/>
              </a:rPr>
              <a:t>July 29,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